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00723-0D7C-41F8-9FE1-B42625E35E1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FB49E-2CA5-4FB5-82A6-DFE18D98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39C35-F662-4FBE-BE2B-8672E154A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382EE-F07E-491F-8745-CC2217DD8D9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6FFD8-45FE-4745-8BFE-286677CC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269E8-7BFD-4834-9D45-DA8B86F0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22102-4064-458C-BFBD-859A3B31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FA36B-658D-42F2-8654-07C24910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1782-688E-42BE-AE70-D0FEB5CDD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02DFC-7DCF-4D56-8B45-EF07A5F5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B7C3F-AB69-4076-B24A-36CCC2A06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CAF46-2BA0-4FE7-9BA4-DC5C5948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E80F-8ED4-4472-B8C4-8EB9C585972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第六章  </a:t>
            </a:r>
            <a:br>
              <a:rPr sz="4800"/>
            </a:br>
            <a:r>
              <a:rPr b="1" lang="zh-CN" sz="4800" spc="-1" strike="noStrike">
                <a:solidFill>
                  <a:srgbClr val="ffffff"/>
                </a:solidFill>
                <a:latin typeface="Verdana"/>
                <a:ea typeface="宋体"/>
              </a:rPr>
              <a:t>高危妊娠管理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50DA9-5E6E-433C-8551-C8877C0EAC9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7730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实验室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畸形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成熟度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缺氧及程度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99974-BB6C-436C-BE61-D3E24827F21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1356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处理原则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因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遗传性疾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防治原则是预防为主，早发现、早诊断，及时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妊娠并发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应认真做好围生期保健，及时发现高危人群，预防并发症和不良结局的发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合并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8DC74-E392-4050-A186-E08EF41D9AB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-360" y="1483920"/>
            <a:ext cx="8839080" cy="47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一般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针对各种高危因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具体特点进行相应的治疗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给孕妇高热量、高蛋白质、足够维生素及适量微量元素，有助于促进胎儿的生长发育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提高胎儿对缺氧的耐受力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对胎盘功能减退的孕妇，定期面罩给氧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0AE48-CC70-4B76-87AF-36209FA151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产科处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预防早产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终止妊娠问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时处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889E-638C-4A40-8BD4-BB7F8D54E9A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病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身体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观察孕妇体态，测量孕妇身高、体重、血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全身状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产科生理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状况评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F538-AC35-4583-A391-B728301FDB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实验室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其特点是可以连续观察并记下胎心率的动态变化而不受宫缩影响。再配以子宫收缩仪、胎动记录仪便可反映三者间的关系。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325D-5296-4585-9962-77637E6E4D8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基线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在无宫缩或宫缩之间记录下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 即与子宫收缩有关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变化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E2B81-1D2D-4703-9A8C-9232B5511E7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8964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）周期性胎心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P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无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仍保持原基线不变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加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子宫收缩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FH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加，增加范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加速的原因可能是胎儿躯干局部或脐静脉暂时受压。散发的、短暂的胎心率加速是无害的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D0504-6AF7-4B5A-9783-AAA7658C030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分为三种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早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它的发生与子宫收缩几乎同时开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收缩后即恢复正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幅度不超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早期减速一般认为是胎头受压，脑血流量一时性减少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无伤害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表现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700360" y="4149720"/>
            <a:ext cx="48528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F5FA-45DB-4E14-BAE2-000F4B36F2B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变异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宫缩开始后胎心率不一定减慢。减速与宫缩的关系并不是恒定的。但在出现后，下降迅速，幅度大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80bp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持续时间长，而恢复也迅速。一般认为变异减速系因子宫收缩时脐带受压兴奋迷走神经所致 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116000" y="4149720"/>
            <a:ext cx="685008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4392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及监护管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妇女的护理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胎儿窘迫及新生儿窒息的护理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小   结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4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20E2-54E7-4BD7-B315-7A8234863CF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e230c"/>
                </a:solidFill>
                <a:latin typeface="宋体"/>
                <a:ea typeface="宋体"/>
              </a:rPr>
              <a:t>晚期减速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子宫收缩开始后一段时间（多在高峰后）出现胎心率减慢，但下降缓慢，持续时间长，恢复亦缓慢，晚期减速是胎儿缺氧的表现，它的出现应对胎儿的安危予以高度注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050920" y="3789360"/>
            <a:ext cx="5854680" cy="26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6390E-7B6B-4511-8E3E-64EF01EDA66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和尿中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HCG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雌三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胎盘催乳素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血清妊娠特异性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β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糖蛋白测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D5A6-BAD8-4118-953A-1D37D0192A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羊水中卵磷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鞘磷脂比值，用于评估胎儿肺成熟度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血清甲胎蛋白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(AFP)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测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头皮血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pH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检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在宫颈扩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5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上时取胎儿头皮血，＜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.2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则提示胎儿严重酸中毒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C31A-008C-4DFE-84DA-046C134F3DD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二节 高危妊娠妇女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增加营养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健康指导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做好病情观察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配合检查和治疗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78A01-24B3-429B-A310-54DDD6C4701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指胎儿在宫内有缺氧征象，危及胎儿健康和生命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A309F-EAC6-4CF7-8282-CABB602EA46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、胎儿窘迫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儿窘迫的病因涉及多方面，可归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类。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母体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胎儿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三）脐带、胎盘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DA6AC-B008-438B-A2F8-FA03E828875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871380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孕妇体重、宫高、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持续不长或增长很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系统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儿双顶径、头腹围之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股骨长度、羊水量等表明有胎儿生长迟缓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综合生物物理图像评分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即通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测胎儿呼吸、胎动、羊水量，结合胎心监护试验，可表现为评分低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3B999-7479-4F7A-90B6-1C0E200121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盘功能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测雌三醇、胎盘生乳素、雌激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肌酐比值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慢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多发生在妊娠末期，往往延续至临产并加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急性胎儿窘迫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主要发生于分娩期，多因脐带因素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7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变化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心出现异常改变是胎儿窘迫最早出现的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BBAF-B8F1-4EE3-AE61-8AA45B27BAB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临床表现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心监护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观察胎动时胎心率无加速反应，或无胎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9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异常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胎动是胎儿生命体征之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水出现改变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胎粪污染羊水的程度可分为三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4A28C-A897-40CC-ADBF-B67B15BE598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治疗原则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一）慢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应针对病因，根据孕周、胎儿成熟度和窘迫的严重程度决定处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（二）急性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宫颈尚未完全扩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列举高危妊娠的范畴、辅助检查方法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陈述胎儿窘迫与新生儿窒息的临床表现和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识别高危妊娠妇女的胎心电子监护图形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．比较高危妊娠的评分指标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评估胎儿窘迫，实施新生儿窒息抢救过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86A5-A6DC-4AC0-8B94-18750590414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7F0EE-B640-4031-9174-F58E135B614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盘功能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心监测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胎儿头皮血血气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3B546-FE28-4F02-8D71-E1AE97F6069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胎儿情况改善，胎心率在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6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能运用有效的应对机制来控制焦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产妇能够接受胎儿死亡的现实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3B67-D08F-4E1B-ACBA-FDBCB9D8E5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护理措施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孕妇左侧卧位，间断吸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为手术者做好术前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做好新生儿抢救的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151F6-9E6C-4C26-A653-0773B630089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定义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，仅有心搏无自主呼吸或未能建立规律呼吸，以低氧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高碳酸血症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酸中毒为主要病理生理改变的疾病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6BC6-3604-4632-B6F6-2A15101A25C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二、新生儿窒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病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前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分娩时的损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85A9-6124-41A7-82B8-9F3013F2AA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轻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新生儿面部与全身皮肤青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呼吸浅表或不规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规则，强而有力，心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有反应，肌肉张力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存在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轻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42B56-B9A3-4FF7-BB30-3A9946B3879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临床表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重度窒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皮肤苍白，口唇暗紫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无呼吸或仅有喘息样微弱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心搏不规则，心率﹤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8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，且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对外界刺激无反应，肌肉张力松弛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喉反射消失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具备以上表现为重度窒息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评分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～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分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DBA5-2FBA-4824-B7EE-4566AD2F1CF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治疗原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预防为主，一旦发生及时抢救，动作准确、迅速、轻柔，以免二次损伤。估计胎儿娩出后有窒息的可能要做好复苏准备如人员、器械、药品、氧气等。如果发生窒息应及时按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清理呼吸道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建立呼吸，增加通气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维持正常循环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药物治疗），</a:t>
            </a:r>
            <a:r>
              <a:rPr b="1" lang="en-US" sz="2400" spc="-1" strike="noStrike">
                <a:solidFill>
                  <a:srgbClr val="046ca6"/>
                </a:solidFill>
                <a:latin typeface="宋体"/>
                <a:ea typeface="宋体"/>
              </a:rPr>
              <a:t>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评价）步骤进行复苏。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32BC-63E6-4935-987D-A838577C95C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护理评估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身心状况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重点评估窒息的程度，胎儿出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钟进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Apga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评分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FE2B-CDBE-4CDE-B213-E27324FFCDB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主要护理问题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新生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体交换受损  与呼吸道内存有羊水、黏液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受伤的危险  与抢救操作、脑缺氧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母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功能障碍性悲伤  与现实的或预感到失去孩子及新生儿可能留有后遗症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恐惧  与新生儿的生命受到威胁有关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CE9D-7699-4F9E-9976-76B12C3EE5F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高危妊娠定义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  <a:ea typeface="黑体"/>
              </a:rPr>
              <a:t>: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指在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妊娠期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致病因素或某种并发症及合并症可能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危害孕妇、胎儿及新生儿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或导致难产者。具有高危因素的孕妇，称为高危孕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0212-C472-4E5F-BAC0-3315BE9630A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期目标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抢救成功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新生儿并发症降低至最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．母亲情绪稳定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D8D8F-A1F7-4E96-9A7B-B043ECFEEE9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23640" y="1484280"/>
            <a:ext cx="841212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黑体"/>
              </a:rPr>
              <a:t>护理措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ca6"/>
                </a:solidFill>
                <a:latin typeface="宋体"/>
                <a:ea typeface="宋体"/>
              </a:rPr>
              <a:t>ABCDE</a:t>
            </a:r>
            <a:r>
              <a:rPr b="1" lang="zh-CN" sz="2000" spc="-1" strike="noStrike">
                <a:solidFill>
                  <a:srgbClr val="046ca6"/>
                </a:solidFill>
                <a:latin typeface="宋体"/>
                <a:ea typeface="宋体"/>
              </a:rPr>
              <a:t>复苏方案：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尽量吸净呼吸道黏液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建立呼吸，增加通气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维持正常循环，保证足够心排出量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药物治疗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⑤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评价。前三项最为重要，其中吸净呼吸道黏液是根本，通气是关键。</a:t>
            </a:r>
            <a:r>
              <a:rPr b="1" lang="zh-CN" sz="20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FFDC-F275-4A02-A3D5-0719A9DBA3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新生儿窒息复苏流程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最初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通气复苏步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各种抢救药物的应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加强新生儿复苏后的护理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308D-0885-45A8-BA07-FD03DD44521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三节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胎儿窘迫及新生儿窒息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8124840" cy="471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预防：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围产保健，及时处理高危妊娠。加强胎儿监护，避免和及时纠正宫内缺氧。对宫内缺氧胎儿，可通过羊膜镜了解胎粪污染羊水的程度，或在胎头露出宫口时取胎儿头皮血进行血气分析，密切监测临产孕妇，避免难产。培训接产人员熟练掌握复苏技术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BF0D6-D4A2-4008-8F24-1247E236ADA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071360" y="214200"/>
            <a:ext cx="80722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小  结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640720" cy="49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的监护  高危妊娠的范畴，高危妊娠的监护可归纳为：人工监护、仪器监护、实验室监护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高危妊娠妇女的护理  高危孕妇的处理原则：病因治疗、一般治疗、产科处理，对高危妊娠妇女护理评估，熟悉高危妊娠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胎儿窘迫的护理  胎儿窘迫的病因，胎儿窘迫分为急性与慢性窘迫。掌握胎儿窘迫的护理评估，熟悉胎儿窘迫的护理措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新生儿窒息复苏的护理  新生儿窒息分为轻度窒息和重度窒息。做好新生儿抢救准备，配合新生儿窒息的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ABCD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复苏，加强后的护理。掌握新生儿窒息复苏的流程。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6ca6"/>
                </a:solidFill>
                <a:latin typeface="黑体"/>
                <a:ea typeface="黑体"/>
              </a:rPr>
              <a:t>谢谢！</a:t>
            </a:r>
            <a:endParaRPr b="1" lang="en-US" sz="6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2D5E-3F1A-4429-A2EA-2442F9D14CB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39280" y="1484280"/>
            <a:ext cx="81248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范畴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导致高危妊娠的因素包括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个人及社会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孕妇年龄；孕前体重过轻或超重；未婚或独居；有吸烟、酗酒、吸毒史；家族中有明显遗传性疾病；未做产前检查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．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  <a:ea typeface="宋体"/>
              </a:rPr>
              <a:t>疾病因素</a:t>
            </a:r>
            <a:r>
              <a:rPr b="1" lang="zh-CN" sz="2400" spc="-1" strike="noStrike">
                <a:solidFill>
                  <a:srgbClr val="8ac8de"/>
                </a:solidFill>
                <a:latin typeface="宋体"/>
                <a:ea typeface="宋体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有异常孕产史者；妊娠期各种并发症、合并症；胎盘功能不全；妊娠期接触大量放射线、化学性毒物、服用过对胎儿有影响的药物等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5466-282F-4D79-9CBF-9E5EE60E724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5694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高危妊娠的监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确定孕龄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根据末次月经、早孕反应的时间、胎动出现的时间核算预产期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测量子宫底高度及腹围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产前检查时，均应测量孕妇的子宫底高度和腹围，估计胎龄及胎儿大小，以了解胎儿宫内发育情况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动计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每天早、中、晚计数三次，每次一小时，三次之和乘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即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小时胎动次数。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02497-03EA-42E0-B665-CEF107DAD74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人工监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听胎心音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用听诊器或多普勒监测仪，了解胎儿是否存活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高危妊娠评分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高危妊娠评分法是进行动态监护的具体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6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妊娠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反映胎儿宫内发育及孕妇健康情况的动态曲线图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4C89-4053-4AAF-B919-5A15AE77B6D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785600"/>
            <a:ext cx="84438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</a:t>
            </a: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超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从声像图反映胎儿数目、胎位、胎心及胎盘的位置和结构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心电图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及早发现胎儿宫内缺氧及有无先天性心脏病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电子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可连续记录胎心率的变化，同时观察胎动、宫缩对胎心率的影响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6A222-E881-4DA4-9D70-A1A0E4EE6AF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第一节 高危妊娠及监护管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785600"/>
            <a:ext cx="837072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二）仪器监护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羊膜镜检查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通过羊膜镜直接窥视羊膜腔内羊水性状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宋体"/>
                <a:ea typeface="宋体"/>
              </a:rPr>
              <a:t>．胎儿生物物理监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是综合胎心电子监护及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超所示某些生理活动 ，以判断胎儿有无急、慢性缺氧的一种产前监护方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0T08:40:41Z</dcterms:modified>
  <cp:revision>21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